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F2F-4533-45AB-ABCA-6E56F594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DA3-B4C8-4B18-913B-6FC5C77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D66-3EFF-4721-B7F9-AA2561C7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939-6F61-40A0-8A2F-3F021F2E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544-5301-4193-A78C-B175E0B8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C4F-CE3F-4A50-9E18-FD91AE4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6B2-925A-4571-A658-3774EE0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82B-EC73-4038-AED4-05C07B7E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F8B4-40B5-4FD8-A1E3-69981781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1050-F24F-4259-9359-9D7C5CE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930B-C62F-42A8-B904-31A3853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9FC-F4E1-41C6-AD80-1D72A6C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0E88-6C9F-45D0-B85C-6A80495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AA3-A1D8-4D89-A0C9-6A8A72E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793-60FA-484C-92A4-F9DB7C2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92A-7F1A-4029-B1BA-56C2B46D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10E8-5009-4247-A892-BE724A31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16A0-81B7-4D7B-8C4B-254B268F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1987-233D-4B64-A684-67703EB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90F2-E7A1-4E48-80F9-CEDF9792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8873-5BD5-4B03-BA56-AC5B43E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5A84-8D47-470E-BFA5-41F6DD70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1D2-FE23-4922-AC50-78B7B5A3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FF94-3923-4BDD-956C-F8123C35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3696-62CD-4B82-B119-5863FFE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DBD9-B9F7-4EE1-9E44-2B83BC3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EB5B-60F9-45A4-B7C8-0F3C7B1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B23C-B50A-421C-9F49-F5D3D6D1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861E-45D4-49D5-B319-9E42E50C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267F-132B-4DBD-8F79-50C6F93E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7905-7058-4E81-99B2-0324787E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769B-23B1-48E7-8A6D-109D59DA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6005-7BDD-42BF-91FE-5E2CDF8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CB7-6EEF-442D-8F2D-7A2AA12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CA2E-6516-4EDA-9B5A-7D0FAD6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EE29-A4DF-4585-9F55-6C51074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CDA6-776C-4AD5-BBC5-12CCDBD9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7758-2316-4241-97DC-83C8A81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2640-4162-4780-AD5F-7D05B1A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9282-DC22-433D-822C-F8937DD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60510-CB25-43E4-9E30-336169C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79F8-83AD-4F9B-ACE5-EA7097A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BCBF-6530-4F91-A3D4-0F5FDD08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87B8-11AA-42FB-8A8D-557E25C5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DBB-AD4A-4856-A073-F8EE7A28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C3696-31B8-4013-B542-E0A732D1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7AF70-863B-43AB-BCEB-2A93FF7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07C8-F647-4938-A39E-B56288B1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07B3-EE21-4AA3-AEB6-38BDC2E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48971-AE9A-4299-B66F-30A81DA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29FC-D59E-4C3A-A0FB-7A239EA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50E1-0D13-4D57-9D37-D76B595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C824-F284-4446-B7E2-F633565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29B9-863F-4E7F-A547-083513B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0BB8-0FE4-4291-B3D6-C2F55B12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71C-C3EE-4599-8CC9-D9C6E72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F970-F7D5-4A19-9024-D9835A48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B1C-037E-4A40-AC2A-FD70C74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879-7CC0-41F8-8CC5-65E8F72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9B-B085-4843-965D-A56E981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F67-F80B-484E-92EC-80483A1687F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599-6503-4556-8791-5F635F2869D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D578-5578-4FBF-A99E-DDDAB2EC2EC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262-B1E5-4242-B536-F12B2B78A58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ED47-1BA0-4DFF-BF84-4F031B983DA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umber of ___________________indicates how accurate a measurement is. The number of_______________will be determined by the instrument used to measure a quantity. The last sig.fig.of a measure is always _________, or an _____________.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a decimal point is present, zeros to the ______ of the first non-zero digit ( leading zeros ) are not significant.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a decimal point is __________, zeros to the right of the last non-zero digit ( trailing zeros ) are not significa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______ zeros are significa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 zeros, after a decimal, are significa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________digits are significa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a measurement is written in _____________________, only the digits in the coefficient are significa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ed and defined values have _____________significant digi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0.0003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3.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200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20000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Your answer is only as accurate as your _____ accurate measure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When ADDING OR SUBTRACTING, round off to the NUMBER OF DECIMAL PLACES in your least accurate measurement, then _____________________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When MULTIPLYING OR DIVIDING, round your _______________off to the same number of ___________________as your least accurate measure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7:48:28Z</dcterms:created>
  <dc:creator>Administrator</dc:creator>
  <dc:description/>
  <dc:language>en-US</dc:language>
  <cp:lastModifiedBy>Administrator</cp:lastModifiedBy>
  <dcterms:modified xsi:type="dcterms:W3CDTF">2010-08-31T17:57:48Z</dcterms:modified>
  <cp:revision>2</cp:revision>
  <dc:subject/>
  <dc:title>Significant Figures</dc:title>
</cp:coreProperties>
</file>